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6F1-DEF0-422E-8EE3-97B04EA5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2CC-FF3C-428E-B7E7-A485ADC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A29-41B0-444E-8B98-717D6156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F61-ED5E-44B9-9D8A-18260CA7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0A9D-7A28-43F8-BDB6-FAE87F6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56F4-BC67-4E26-89C1-81715111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2A9A9-334A-473F-8D49-8D1B2177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03FDE-A647-41CA-A10E-9CA8FFD1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100C-2386-4504-BAB5-53D0A15C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B29DD-7601-4AA5-99EA-B81A331C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10C3-A6B9-430D-9485-D407BF4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8AB-3E18-4827-80EC-D79D850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21BAF-B0F0-44C4-83E2-5C2BD71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40E68-F4CB-4268-8D51-B1BC03B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E696-74A3-482D-BF5E-0B38451E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37DF-545A-43F0-BC16-39E12614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B004-6989-4EA6-BD0B-F110D0E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FF195-0D29-467B-AF27-DD46D84A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B6DB1-C7AA-4C70-A626-D490BFB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E6A03-5E03-4AEE-849E-7411628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1199A-B399-4DD6-B4B4-999EA62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2E159-2C19-4AD8-94CC-8E410C8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965-431F-4A78-ABA1-CF01C25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35E2-AD88-4D64-BEBC-2C35578A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7C421-DB78-4CE7-B409-8904EE7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E7BE5-5434-49B7-A284-67008EC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E331F-60A5-4DDE-B232-07D4AEC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55981-3F42-4B03-9A75-A17BA0C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056B7-0437-4093-88AC-3E980E64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B3022-0E8A-4BD0-8B56-202EB1FF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1E52E-4A6D-4DD9-BCAF-7DF7FC36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1D73-C56C-4D00-B1C8-DC1DAC5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650B-D10D-499A-AADD-D9FA2C9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236-53C6-4165-B214-90C7FF8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EEE7-2FA8-4981-9009-43D5EA1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0922-ACC2-4860-BB50-74B47BF2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C467-5706-4F1C-B61D-466CC8D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9BF4-360A-475F-BFF2-E5C2ABF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28FF-C8A8-4780-AE97-30E2713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7E32-F50B-4384-84BD-2647BC4E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7B9B-682D-450E-A936-ECD903D5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5742-D1DD-4CDF-99A6-00397E8A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E124-F604-47B6-8B5A-49BA1768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4614-0E18-4CDC-97BF-07AE1133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054-0A23-44A7-B1E0-D6DF324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171E-636D-4F11-9AFD-E6AF5B7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824E-4B41-4579-B8B5-0EDA632F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88FB-1E74-4964-8B7F-D375E9D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7C84-51AA-4A6F-BA63-8728458F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56EEE-8C2D-4D7B-8140-37F32A4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4EA30-8136-40FA-AC9B-FC34151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F718-6C79-49F4-B575-EAD88A9F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5E960-C57D-4E3D-B51F-113A606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649B-EBEB-44E8-AB0C-96D7BC6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5F1C-43E8-471E-840A-D2BC292E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611-E4AA-4DF5-A1FA-F32EE9A6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E969-F807-4878-8876-8CD43FB4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65B0-A2FF-4F2A-8912-425414B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379A-53BE-4E3F-8890-1A4761A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BDF6-4C0D-4799-99DD-196E73C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0A46-F616-4E96-BCD4-B941476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2783-3105-4965-A247-D3ACDA6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1091A-F3D9-40C3-A309-51F69F80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3845-A971-4B56-B8F4-B4C3FCD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6C8C-6765-4469-9795-5765332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25AA-7BBD-455B-8227-A77D252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DD0-E0D4-471C-A430-8DE3881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5382-4D19-44C3-AA6B-6DF571E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1689-2116-4E98-9240-7AB5A1E3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A1B7-4D8C-4434-AB9F-E72ACAE4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FDFDF-A3BA-417A-962F-7D2C27F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06E6-4E1C-4E5E-99EA-A5EAFEB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051D-1975-433D-B45A-9E17327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EBC1-2EEE-48E0-9118-41F45FB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DC7F-CDEA-4779-9869-4AF494D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33C09-0CB2-4C92-A9B9-CFCAB1D0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B039-F609-4045-B6FF-B4A99CB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17C-D413-44DB-96EC-21B8BEA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7BDA-C85B-4FDC-B632-0BFBC40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E5C00-B121-4367-B0E7-FB864EB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E1285-4344-4413-A38F-AFF89570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A66E9-7DE5-4505-822A-3A685B85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D5E9-B157-4C84-B09E-13EBE59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BCA-8588-456A-8791-077C0C63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6AC3-50C9-4700-BA2B-FF5331D8F5D0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EBF9-57AA-43DB-B49E-20DC90B20D9C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544-30C2-4A9D-A5B4-4CC606FE3A48}" type="datetime">
              <a:rPr b="0" lang="en-US" sz="1100" spc="-1" strike="noStrike">
                <a:solidFill>
                  <a:srgbClr val="cdd4d7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7A7-2032-405A-967B-EA94DF9FAD6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F44-3EDC-4D73-AFD0-5358140C1635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38CC-78A8-4E99-9FD8-4B805F3BCCA8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688-4060-4B1A-AC85-399973CDA428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6A41-7B78-4AB2-BDFF-24E1035D678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6E2F-B134-4E29-84DE-492CC94471EB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6551-3858-44BD-8FFD-85210655BB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EA6-7896-4F0C-BE49-FF86B27A6C21}" type="datetime">
              <a:rPr b="0" lang="en-US" sz="1100" spc="-1" strike="noStrike">
                <a:solidFill>
                  <a:srgbClr val="cdd4d7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339-1496-4A8D-8F25-ED33EEEF2E6D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3C4-749E-4011-BB12-5EE2CB845C60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7A34-5312-4960-A4D4-66D01A6445BE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-gQLqv9f4o" TargetMode="Externa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wlhUcSGqgs#aid=P-L5KBR_1UI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5" descr=""/>
          <p:cNvPicPr/>
          <p:nvPr/>
        </p:nvPicPr>
        <p:blipFill>
          <a:blip r:embed="rId1"/>
          <a:stretch/>
        </p:blipFill>
        <p:spPr>
          <a:xfrm>
            <a:off x="371520" y="1719360"/>
            <a:ext cx="8418600" cy="4406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. 11 KWL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3 MINUTES/NAME &amp; CHAPTER ON IT/TURN IN)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014-8B49-464E-9FC0-655DA0A98973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457200" y="411480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 from Ch. 9 about the importance of developing metacognitive skills in students, KWL is one way to do this (pp. 319-3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L encourages students to “look within” and identify what they bring to the learning sit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to Ch. 10/Ch. 11: allows students to be ACTIVE co-constructors, and to increase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NOTE TAKING SHEE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CE01-27CC-4FB0-866C-E5FFF8975739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EDST 1002: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dd4d7"/>
                </a:solidFill>
                <a:latin typeface="Franklin Gothic Medium"/>
              </a:rPr>
              <a:t>SOCIAL COGNITIVE VIEWS OF LEARNING AND MOTIVATION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B1F8-A5AB-48F5-9B6B-805FCA2373D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Bandura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Modeling and Observational Learning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ocial Cognitive Theor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elf-Regulated Learning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elf-Efficac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Teacher’s Sense of Efficac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APTER 1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CUS ON THESE MAJOR TOPICS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F2D7-2721-4CD2-9AA7-4C87589ABE58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Bobo Doll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380520" y="1752120"/>
            <a:ext cx="63248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BANDURA: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WHY DOES HE SOUND FAMILIAR?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(BUILDING ON PRIOR KNOWLEDGE)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2898-6A5D-440E-BFF4-50953F9BCD51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3842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600200"/>
            <a:ext cx="847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Arial"/>
              </a:rPr>
              <a:t>What you should know about Albert Bandura: </a:t>
            </a: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Social cognitive view of learning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Bandura suggested that the main limitation of traditional views of learning are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According to Bandura's theory of self-efficacy, the most important and influential source of self-efficacy information comes from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In Bandura's social cognitive learning theory, the interaction among personal factors, environmental events, and behaviors is called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Bandura's model of reciprocal causality is based on 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How does Albert Bandura's social cognitive theory help us to understand Annie's comment "I just can't do this writing stuff”?...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914760" y="30492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-COGNITIVE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5029200" y="6400800"/>
            <a:ext cx="335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651-4965-48D4-810A-E30300D56D19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Social learning theory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: emphasizes learning through observation of other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emphasis on modeling and obser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Behaviorism was too limited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no effects of social model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culture not affected only by rewards/punishmen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Bandura raises the question about the role of </a:t>
            </a: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expectations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 and </a:t>
            </a: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beliefs </a:t>
            </a:r>
            <a:r>
              <a:rPr b="0" lang="en-US" sz="2200" spc="-1" strike="noStrike">
                <a:solidFill>
                  <a:srgbClr val="000000"/>
                </a:solidFill>
                <a:latin typeface="Franklin Gothic Medium"/>
              </a:rPr>
              <a:t>(p. 399)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?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 LEARNING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53B-D1D0-47A2-92DF-5F9321AD755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ory that adds concern with cognitive factors such as: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eliefs, 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elf-perceptions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pectations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99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7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Medium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system that explains human learning and motivation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 COGNITIVE THEORY IS A…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B31-6E8C-458A-B4F7-84422F9BF7A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Review (dynamic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WHAT IS SOCIAL COGNITIVE THEORY?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3556-8E92-4CD4-A0E3-8CE56D058288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"/>
          <p:cNvPicPr/>
          <p:nvPr/>
        </p:nvPicPr>
        <p:blipFill>
          <a:blip r:embed="rId1"/>
          <a:stretch/>
        </p:blipFill>
        <p:spPr>
          <a:xfrm>
            <a:off x="384120" y="457200"/>
            <a:ext cx="8412120" cy="591336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BAD-F8AC-4283-9F5C-DB44FE5E1B9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380880" y="304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iprocal Infl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. 3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19360"/>
            <a:ext cx="840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How is Knowledge Viewed:  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How is Learning Viewed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Teaching/Role of Teacher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Peers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the Student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OCIAL COGNITIVE THEORY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2 MINUTES)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7F4-66D7-4F3C-975A-4DDFE7B56EE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TURN IN KWL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DOUG COLLEC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61E-68C9-43A0-9169-E54A53C6FEDD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0880" y="1719360"/>
            <a:ext cx="840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Knowledge:  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Changing body of knowledge, constructed in interaction with others and the environment. 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Learning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construction of knowledge based on observation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Interacting with the physical and social world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Developing agency (self-regulation)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Teaching/Role of Teacher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Modeling, facilitate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Peers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Model and construct knowledge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Student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co-construction with others and self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thinker, questioner, participator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76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OCIAL COGNITIVE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EDE-815B-4041-9349-2C026B2B5D9F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learning by observing oth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observations teach us how to perform a behavior, what will happen to us in specific situations if we perform i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4 elements: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atten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reten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motivation and reinforcement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Arial"/>
              </a:rPr>
              <a:t>What do these four elements mean?… (next slide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ODELING: OBSERVATIONAL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200-656F-4FEE-AE58-ACB13313BAFE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76184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t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Re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remember the behavior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make mental representations (verbal steps, visual images, etc.)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mental rehearsal or practice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Produc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practice, feedback, coaching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Motivation and Reinforcemen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direct reinforcement, vicarious reinforcement, self-reinforcement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ODELING: OBSERVATIONAL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25F-4ED6-4F46-BDAD-B435034E39D5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APPLICATION (Mary/Nick):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Think about…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How could you incorporate observational learning into your teaching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What are the skills, attitudes, and strategies that can be modeled in teaching your subject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BSERVATIONAL LEARNING IN TEACH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266-CA1D-473E-BB77-8D0E97888B8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520"/>
            <a:ext cx="784872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Refer to the Guidelines Section (p. 404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Directing at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djusting already-learned behavio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Strengthening or weakening inhibition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Teaching new behavio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rousing emo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BSERVATIONAL LEARNING IN TEACH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D45-82FC-4A11-8067-D60CF7D38795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efficacy</a:t>
            </a: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: A person’s sense of being able to deal effectively with a particular task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Do you believe in your ability to perform well on the exam? 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Agency</a:t>
            </a: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: the capacity to coordinate learning skills, motivation, and emotions to reach your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Make intentional choices and plan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After individual interviews, did you have a plan? What have been your intentional choices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Consider how this can this apply to this class or oth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EFFICACY AND AGENC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603-0FF1-463D-8A4D-AE9AC183630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eater efficacy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eater effort and persist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et higher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less afraid of failure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I am looking for you to try, demonstrate you are wrestling with the materia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new strategies when old ones fai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5BEE-426B-48B0-9060-4DABCD10C6A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Why is it important?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High self-efficacy associated with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erformance in middle through high scho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life satisfaction in adolesc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deep processing learning strategies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erformance in college for older studen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39E-1598-4652-A5E0-423F97F163F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Performance and self-efficacy can be improved when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adopt short-term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asier to judge progr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are taught to use specific learning strateg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focus attention with outlining, summarizing, etc.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these still matter in college/this cours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receive rewards based on achievement (not just engagement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ignals increasing compet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98C-B99D-41F5-8F61-3AE46B95784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How might a teacher’s sense of efficacy affect student learning?*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Know this! Review in your textbook.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eachers’ sense of efficac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4D11-AFA1-4AB3-85D0-CF1D6B62FE3D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http</a:t>
            </a:r>
            <a:r>
              <a:rPr b="0" lang="en-US" sz="1900" spc="-1" strike="noStrike" u="sng">
                <a:solidFill>
                  <a:srgbClr val="ec4d4d"/>
                </a:solidFill>
                <a:uFillTx/>
                <a:latin typeface="Franklin Gothic Medium"/>
                <a:hlinkClick r:id="rId1"/>
              </a:rPr>
              <a:t>://www.youtube.com/watch?v=l-gQLqv9f4o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63244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WE ALL NEED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A PEP TALK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END OF THE TERM IS STRESSFU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GRADES ARE BEING ENTER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ANXIETY IS HIG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LARGELY- I SEE GRADES AS A CONVERS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BUT YOU NEED TO FOLLOW THROUG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RESERVED TIME IN SYLLABUS TO ME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MAKE PROPER USE OF LC PEER LEADER/ADVISOR- 3 OF US CAN MEET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C67-AEBA-49E2-A659-133DDA005AB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162920" y="1828800"/>
            <a:ext cx="144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y video until 1: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>
              <a:lnSpc>
                <a:spcPct val="100000"/>
              </a:lnSpc>
              <a:spcBef>
                <a:spcPts val="7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12121"/>
                </a:solidFill>
                <a:latin typeface="Arial"/>
              </a:rPr>
              <a:t>A major goal of formal education is to equip students with the intellectual tools self-beliefs, and self-regulatory capabilities to educate themselves throughout their lifetime. The rapid pace of technological change and accelerated growth of knowledge are placing a premium on capability for self-directed learning” (Bandura, quoted in Woolfolk, 2012, p. 409).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ED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50D-F8B0-450C-9345-7C6D588E21F4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Turn to p. 410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On a scale of 1 (not at all true) to 7 (very true)…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ognitive strategie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When I study for a test, I try to put together the information from class and from the book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When I do homework, I try to remember what the teacher said in class so I can answer the question correctly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nse of efficacy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know I will be able to learn the material for this class.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expect to do well in this class.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 IN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39BD-57CA-461A-B4D0-6A571268E99E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On a scale of 1 (not at all true) to 7 (very true)…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expect to do well in this class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ask myself questions to make sure I know the material I have been studying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Even when study materials are dull and uninteresting, I keep working until I finish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 IN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A1D-105B-4354-9296-048C89A7F984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  <a:ea typeface="Arial"/>
              </a:rPr>
              <a:t>process of activating and sustaining thoughts, behaviors, and emotions in order to reach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combination of academic learning skills and self-contr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makes learning easier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more moti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23FA-5E38-4223-88BB-A0FE9C0C468F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Knowledg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about themselves, the subject, the task, strategies, contex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value learning, believe can improve intelligence and abilit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Voli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will power, self-discipline, work styl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FLUENCES ON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3F1-046A-4967-BF12-962E714460D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Development of self-regul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enerally improves over tim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irls better than boys at a young ag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co-regulation: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modeling, direct teaching, feedback, and coaching from other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adually adopt as ow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hared regulation: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working together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reminders, prompts, guida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FLUENCES ON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83B-DCAD-4F6B-9387-6412E85D4EB3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awaren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managemen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ocial awaren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Relationship skil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Responsible decision-mak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MOTIONAL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6DF7-3CCA-432B-973F-0D602A85F3CD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ive students choic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what to produce, how to produce it, where to work, whom to work with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(characters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ncourage responsibility for learn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lanning, setting goals, monitoring, evaluat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(come to class prepared and to actively make sense of material; move past “I am confused” to taking ownership)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MPLICATIONS FOR TEACHER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B8B8-5D27-44BB-9DB5-09FEF9202E6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elf-evaluation (asked in indv. Meetings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Non-threatening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Grow before grades issued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mphasize process as well as produc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Reflection! Know what you know and don’t know!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Interpret errors as opportunit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This is why I am giving you feedback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ing students ownership over evaluation lessens anxiety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meet with me, early term feedback, and why what you say matt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MPLICATIONS FOR TEACHER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513-54EF-4D2D-9F0C-9697F7414F5C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Cognitiv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Constructivis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ocial Cognitiv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Bringing it all together…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BD28-B497-428A-8D51-278721A1216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380520" y="1066680"/>
            <a:ext cx="6324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RE-EMPHASIZE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I CHALLENGE YOU BECAUSE </a:t>
            </a:r>
            <a:r>
              <a:rPr b="0" lang="en-US" sz="4200" spc="-1" strike="noStrike">
                <a:solidFill>
                  <a:srgbClr val="ff0000"/>
                </a:solidFill>
                <a:latin typeface="Franklin Gothic Medium"/>
              </a:rPr>
              <a:t>I CARE </a:t>
            </a: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OUT YOUR DEVELOPMENT AS A PROFESSIONAL</a:t>
            </a:r>
            <a:br>
              <a:rPr sz="4200"/>
            </a:b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E ARE ON THE SAME TEAM &amp; WE HAVE WORK TO DO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23B2-53CF-4736-B40E-4C0DD999BF3B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c4d4d"/>
                </a:solidFill>
                <a:uFillTx/>
                <a:latin typeface="Franklin Gothic Medium"/>
                <a:hlinkClick r:id="rId1"/>
              </a:rPr>
              <a:t>http://www.youtube.com/watch?v=RwlhUcSGqgs#aid=P-L5KBR_1UI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WE ALL NEED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A PEP TALK</a:t>
            </a:r>
            <a:br>
              <a:rPr sz="42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ELINE’S VIDEO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075-5513-427E-9FD7-192F178E5C6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Name of Chapter 11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Major theorists and theories covered in the chapter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Observational learning can lead to five possible outcomes, list them.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is self-efficacy and how is it different from other self-schemas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is a teacher’s sense of self of self efficacy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factors are involved in self-regulated learning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OSED BOOK QUIZ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(5 MINUTES)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F87-47EC-4FAE-B490-3AD3A0D0149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Content Placeholder 5" descr=""/>
          <p:cNvPicPr/>
          <p:nvPr/>
        </p:nvPicPr>
        <p:blipFill>
          <a:blip r:embed="rId1"/>
          <a:stretch/>
        </p:blipFill>
        <p:spPr>
          <a:xfrm>
            <a:off x="378000" y="1712880"/>
            <a:ext cx="8424720" cy="4425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QUIZ--- FOUR VIEWS OF LEARN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HICH THEORIST GOES WHERE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FD6E-BC33-465C-A6F9-3F190137008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04920" y="5562720"/>
            <a:ext cx="8534160" cy="914400"/>
          </a:xfrm>
          <a:prstGeom prst="rect">
            <a:avLst/>
          </a:prstGeom>
          <a:solidFill>
            <a:srgbClr val="b50b1b"/>
          </a:solidFill>
          <a:ln w="19080">
            <a:solidFill>
              <a:srgbClr val="126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Bandura, Bruner, Pavlov, Piaget, Skinner, Thorndike, Watson, Vygots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TURN IN QUIZ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LYSSA COLLEC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BC0A-99C7-4C43-8BCC-5C55DA984E28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5" descr=""/>
          <p:cNvPicPr/>
          <p:nvPr/>
        </p:nvPicPr>
        <p:blipFill>
          <a:blip r:embed="rId1"/>
          <a:stretch/>
        </p:blipFill>
        <p:spPr>
          <a:xfrm>
            <a:off x="378000" y="1712880"/>
            <a:ext cx="8424720" cy="4425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FOUR VIEWS OF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659-B471-4C9C-B1E0-C4A03CB7917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2:16:31Z</dcterms:created>
  <dc:creator>Kelli Jette</dc:creator>
  <dc:description/>
  <dc:language>en-US</dc:language>
  <cp:lastModifiedBy>cechuser</cp:lastModifiedBy>
  <dcterms:modified xsi:type="dcterms:W3CDTF">2014-04-16T16:43:15Z</dcterms:modified>
  <cp:revision>41</cp:revision>
  <dc:subject/>
  <dc:title>Chapter 10</dc:title>
</cp:coreProperties>
</file>